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451-1BF8-4FFC-8355-C75C90E3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491-B1F3-43A2-8C9A-9F20FF9F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0BE-7FD3-46E1-8C3F-528C3AC1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CAE-15C5-4A67-9820-8372BBDB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2B64-FEF5-4E96-9237-1E65AA44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A005-FDB6-44B3-8315-825295A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474D-2455-4B4D-A410-691EF47E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1721-B5C7-45E4-91BC-B65F243E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A6E3-F187-42DB-9ABA-353F03A0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A7BC-8253-433D-8CC1-A444928A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0D72-F2AB-4602-AFC7-07AFC83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B772-6C24-4D82-AE37-9CE999D3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6A19-598B-4E74-BDF7-80BAE31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F738-A5E8-4C1D-9CDA-B01F5D9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20B2-236D-4B20-A437-D55FF60B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91B0-B9BA-49F4-A066-A0CB44BF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42964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16560" y="229248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4272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42964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516560" y="5364720"/>
            <a:ext cx="1987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5AFE-9B3E-4D9C-9D1A-A3CE2A1E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711-B1C0-4385-8CF5-7D3436D4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05C-EC6D-44E1-83F8-4C7D037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868-7D91-4D1F-BB75-5B57FB6D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43080" y="163440"/>
            <a:ext cx="565776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8A5-9BC1-4890-B0F1-70F49FB2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F93-F07C-4621-BA05-4F85F91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505320" y="536472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AD7-32BE-418F-84EC-4A24A88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292480"/>
            <a:ext cx="301176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64720"/>
            <a:ext cx="6172200" cy="28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FC0-7227-445E-ABDB-E20EE6B8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972040" y="20304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4F0-74E2-470A-94A3-70EB518F6D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6114960" y="203040"/>
            <a:ext cx="593280" cy="1726920"/>
            <a:chOff x="6114960" y="203040"/>
            <a:chExt cx="593280" cy="1726920"/>
          </a:xfrm>
        </p:grpSpPr>
        <p:sp>
          <p:nvSpPr>
            <p:cNvPr id="7" name="Oval 9"/>
            <p:cNvSpPr/>
            <p:nvPr/>
          </p:nvSpPr>
          <p:spPr>
            <a:xfrm>
              <a:off x="6114960" y="20304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6240600" y="203040"/>
              <a:ext cx="8892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6366600" y="203040"/>
              <a:ext cx="8748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6114960" y="42696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6240600" y="42696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6366600" y="426960"/>
              <a:ext cx="8748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6492600" y="42696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6114960" y="650880"/>
              <a:ext cx="8964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6240600" y="650880"/>
              <a:ext cx="88920" cy="155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366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6492600" y="650880"/>
              <a:ext cx="87480" cy="155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6618600" y="65088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6114960" y="874800"/>
              <a:ext cx="89640" cy="1598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240600" y="87480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6366600" y="874800"/>
              <a:ext cx="8748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6492600" y="87480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6114960" y="1098720"/>
              <a:ext cx="8964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6240600" y="1098720"/>
              <a:ext cx="88920" cy="1598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366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6492600" y="1098720"/>
              <a:ext cx="87480" cy="1598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6618600" y="1098720"/>
              <a:ext cx="89640" cy="1598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6114960" y="1322640"/>
              <a:ext cx="89640" cy="157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6240600" y="1322640"/>
              <a:ext cx="8892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6366600" y="1322640"/>
              <a:ext cx="87480" cy="157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492600" y="1322640"/>
              <a:ext cx="87480" cy="1576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6114960" y="1546560"/>
              <a:ext cx="8964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6240600" y="1546560"/>
              <a:ext cx="88920" cy="155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6366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6492600" y="1546560"/>
              <a:ext cx="87480" cy="155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6240600" y="1770480"/>
              <a:ext cx="8892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6492600" y="1770480"/>
              <a:ext cx="87480" cy="1594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5486400" y="1422360"/>
            <a:ext cx="0" cy="599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5619600" y="3989520"/>
            <a:ext cx="1002960" cy="2918520"/>
            <a:chOff x="5619600" y="3989520"/>
            <a:chExt cx="1002960" cy="2918520"/>
          </a:xfrm>
        </p:grpSpPr>
        <p:sp>
          <p:nvSpPr>
            <p:cNvPr id="76" name="Oval 9"/>
            <p:cNvSpPr/>
            <p:nvPr/>
          </p:nvSpPr>
          <p:spPr>
            <a:xfrm>
              <a:off x="561960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5832720" y="39895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6044400" y="398952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561960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5832720" y="436860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6044400" y="4368600"/>
              <a:ext cx="15192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6259680" y="436860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561960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5832720" y="474732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604440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6259680" y="474732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6471720" y="474732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5619600" y="5124240"/>
              <a:ext cx="150840" cy="268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5832720" y="51242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6044400" y="5124240"/>
              <a:ext cx="15192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6259680" y="51242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561960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5832720" y="550296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604440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6259680" y="550296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6471720" y="550296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5619600" y="5882040"/>
              <a:ext cx="150840" cy="268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5832720" y="588204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6044400" y="5882040"/>
              <a:ext cx="15192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6259680" y="588204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561960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5832720" y="6260760"/>
              <a:ext cx="150840" cy="268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604440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6259680" y="626076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5832720" y="6639480"/>
              <a:ext cx="15084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6259680" y="6639480"/>
              <a:ext cx="151920" cy="2685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228600" y="3759120"/>
            <a:ext cx="6172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163440"/>
            <a:ext cx="56577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42720" y="2292480"/>
            <a:ext cx="617220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9E78-3874-4D2A-9AE4-A669593F1B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840" y="1714320"/>
            <a:ext cx="541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ИЙСКОЙ ФЕДЕРАЦИИ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9000" y="4065120"/>
            <a:ext cx="52927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многоборь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-11.09.2016 г.                              г. Адлер с/к «Юнос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0280" y="971640"/>
            <a:ext cx="5657760" cy="16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многоборьям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8-11.09.2016 г.                                  г. Адлер с/к «Юность»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                                                                          </a:t>
            </a:r>
            <a:br>
              <a:rPr sz="1400"/>
            </a:b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9360" y="2627280"/>
          <a:ext cx="6048360" cy="6024600"/>
        </p:xfrm>
        <a:graphic>
          <a:graphicData uri="http://schemas.openxmlformats.org/drawingml/2006/table">
            <a:tbl>
              <a:tblPr/>
              <a:tblGrid>
                <a:gridCol w="2173320"/>
                <a:gridCol w="1714320"/>
                <a:gridCol w="463680"/>
                <a:gridCol w="169704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Каз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 делегат ВФ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Фаст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Рыба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вертикальным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Шп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горизонтальным прыжк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Исков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Моч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оборуд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6-09-09T10:03:34Z</cp:lastPrinted>
  <dcterms:modified xsi:type="dcterms:W3CDTF">2016-09-09T10:05:03Z</dcterms:modified>
  <cp:revision>38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